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B71D-9802-4A8E-BA4C-63303B2C6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6BF3-ABCA-4235-B46D-8BCC57BAD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BC35-66A4-467D-9956-4782C4D26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2FE6-D94D-44E7-B538-E8ADA2D13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8225E-6469-4924-A42D-D3C580C8B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4C9A-D2A0-4103-ADA6-F6B98B343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57CD2-AD90-4664-8610-1F5DA989D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3A50-0693-4C8B-BB17-B435C183B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D0230-B713-46BE-8DE8-FF360325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7EFB-4918-43B7-823C-52E6AF33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832C-2E25-436B-BBDC-09F52C9A4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B942-54DC-4087-9713-DFCB81F13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D367D-44F3-4CC3-BE4F-32E9B78BD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image" Target="../media/image1.jpeg"/><Relationship Id="rId6" Type="http://schemas.openxmlformats.org/officeDocument/2006/relationships/image" Target="../media/image2.jpeg"/><Relationship Id="rId7" Type="http://schemas.openxmlformats.org/officeDocument/2006/relationships/image" Target="../media/image1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3.pn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48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51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55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42800" y="1523880"/>
            <a:ext cx="1212840" cy="1295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2347920" y="1828800"/>
            <a:ext cx="1461960" cy="58752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57200" y="914400"/>
            <a:ext cx="37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NSDUH Interview Appoint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5181480" y="914400"/>
            <a:ext cx="3672000" cy="1905120"/>
            <a:chOff x="5181480" y="914400"/>
            <a:chExt cx="3672000" cy="1905120"/>
          </a:xfrm>
        </p:grpSpPr>
        <p:pic>
          <p:nvPicPr>
            <p:cNvPr id="62" name="" descr=""/>
            <p:cNvPicPr/>
            <p:nvPr/>
          </p:nvPicPr>
          <p:blipFill>
            <a:blip r:embed="rId3"/>
            <a:stretch/>
          </p:blipFill>
          <p:spPr>
            <a:xfrm>
              <a:off x="5181480" y="152388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" descr=""/>
            <p:cNvPicPr/>
            <p:nvPr/>
          </p:nvPicPr>
          <p:blipFill>
            <a:blip r:embed="rId4"/>
            <a:stretch/>
          </p:blipFill>
          <p:spPr>
            <a:xfrm>
              <a:off x="7086600" y="182880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>
              <a:off x="5348160" y="91440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442800" y="3809880"/>
            <a:ext cx="3672000" cy="1905120"/>
            <a:chOff x="442800" y="3809880"/>
            <a:chExt cx="3672000" cy="1905120"/>
          </a:xfrm>
        </p:grpSpPr>
        <p:pic>
          <p:nvPicPr>
            <p:cNvPr id="66" name="" descr=""/>
            <p:cNvPicPr/>
            <p:nvPr/>
          </p:nvPicPr>
          <p:blipFill>
            <a:blip r:embed="rId5"/>
            <a:stretch/>
          </p:blipFill>
          <p:spPr>
            <a:xfrm>
              <a:off x="44280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" descr=""/>
            <p:cNvPicPr/>
            <p:nvPr/>
          </p:nvPicPr>
          <p:blipFill>
            <a:blip r:embed="rId6"/>
            <a:stretch/>
          </p:blipFill>
          <p:spPr>
            <a:xfrm>
              <a:off x="234792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60948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5181480" y="3809880"/>
            <a:ext cx="3672000" cy="1905120"/>
            <a:chOff x="5181480" y="3809880"/>
            <a:chExt cx="3672000" cy="1905120"/>
          </a:xfrm>
        </p:grpSpPr>
        <p:pic>
          <p:nvPicPr>
            <p:cNvPr id="70" name="" descr=""/>
            <p:cNvPicPr/>
            <p:nvPr/>
          </p:nvPicPr>
          <p:blipFill>
            <a:blip r:embed="rId7"/>
            <a:stretch/>
          </p:blipFill>
          <p:spPr>
            <a:xfrm>
              <a:off x="5181480" y="4419360"/>
              <a:ext cx="1212840" cy="129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1" name="" descr=""/>
            <p:cNvPicPr/>
            <p:nvPr/>
          </p:nvPicPr>
          <p:blipFill>
            <a:blip r:embed="rId8"/>
            <a:stretch/>
          </p:blipFill>
          <p:spPr>
            <a:xfrm>
              <a:off x="7086600" y="4724280"/>
              <a:ext cx="1461960" cy="587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5348160" y="3809880"/>
              <a:ext cx="3505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imes New Roman"/>
                </a:rPr>
                <a:t>NSDUH Interview Appointmen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6858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0" y="34290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6172200"/>
            <a:ext cx="123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991720" y="6858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991720" y="34290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991720" y="617220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4457880" y="571680"/>
            <a:ext cx="228600" cy="228600"/>
            <a:chOff x="4457880" y="571680"/>
            <a:chExt cx="228600" cy="228600"/>
          </a:xfrm>
        </p:grpSpPr>
        <p:sp>
          <p:nvSpPr>
            <p:cNvPr id="80" name=""/>
            <p:cNvSpPr/>
            <p:nvPr/>
          </p:nvSpPr>
          <p:spPr>
            <a:xfrm>
              <a:off x="4457880" y="6858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572000" y="5716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457880" y="3314880"/>
            <a:ext cx="228600" cy="228600"/>
            <a:chOff x="4457880" y="3314880"/>
            <a:chExt cx="228600" cy="228600"/>
          </a:xfrm>
        </p:grpSpPr>
        <p:sp>
          <p:nvSpPr>
            <p:cNvPr id="83" name=""/>
            <p:cNvSpPr/>
            <p:nvPr/>
          </p:nvSpPr>
          <p:spPr>
            <a:xfrm>
              <a:off x="4457880" y="34290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572000" y="33148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457880" y="6058080"/>
            <a:ext cx="228600" cy="228600"/>
            <a:chOff x="4457880" y="6058080"/>
            <a:chExt cx="228600" cy="228600"/>
          </a:xfrm>
        </p:grpSpPr>
        <p:sp>
          <p:nvSpPr>
            <p:cNvPr id="87" name=""/>
            <p:cNvSpPr/>
            <p:nvPr/>
          </p:nvSpPr>
          <p:spPr>
            <a:xfrm>
              <a:off x="4457880" y="617220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60580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00" y="826920"/>
            <a:ext cx="4114800" cy="2602080"/>
            <a:chOff x="66600" y="826920"/>
            <a:chExt cx="4114800" cy="2602080"/>
          </a:xfrm>
        </p:grpSpPr>
        <p:sp>
          <p:nvSpPr>
            <p:cNvPr id="91" name=""/>
            <p:cNvSpPr/>
            <p:nvPr/>
          </p:nvSpPr>
          <p:spPr>
            <a:xfrm>
              <a:off x="6660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83808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3" name="" descr=""/>
            <p:cNvPicPr/>
            <p:nvPr/>
          </p:nvPicPr>
          <p:blipFill>
            <a:blip r:embed="rId1"/>
            <a:srcRect l="9899" t="0" r="9899" b="0"/>
            <a:stretch/>
          </p:blipFill>
          <p:spPr>
            <a:xfrm>
              <a:off x="327672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2"/>
            <a:stretch/>
          </p:blipFill>
          <p:spPr>
            <a:xfrm>
              <a:off x="7632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5" name=""/>
          <p:cNvGrpSpPr/>
          <p:nvPr/>
        </p:nvGrpSpPr>
        <p:grpSpPr>
          <a:xfrm>
            <a:off x="4952880" y="826920"/>
            <a:ext cx="4114800" cy="2602080"/>
            <a:chOff x="4952880" y="826920"/>
            <a:chExt cx="4114800" cy="2602080"/>
          </a:xfrm>
        </p:grpSpPr>
        <p:sp>
          <p:nvSpPr>
            <p:cNvPr id="96" name=""/>
            <p:cNvSpPr/>
            <p:nvPr/>
          </p:nvSpPr>
          <p:spPr>
            <a:xfrm>
              <a:off x="4952880" y="8269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724360" y="29829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8" name="" descr=""/>
            <p:cNvPicPr/>
            <p:nvPr/>
          </p:nvPicPr>
          <p:blipFill>
            <a:blip r:embed="rId3"/>
            <a:srcRect l="9899" t="0" r="9899" b="0"/>
            <a:stretch/>
          </p:blipFill>
          <p:spPr>
            <a:xfrm>
              <a:off x="8163000" y="26971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4"/>
            <a:stretch/>
          </p:blipFill>
          <p:spPr>
            <a:xfrm>
              <a:off x="4962600" y="26668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4952880" y="3570120"/>
            <a:ext cx="4114800" cy="2602080"/>
            <a:chOff x="4952880" y="3570120"/>
            <a:chExt cx="4114800" cy="2602080"/>
          </a:xfrm>
        </p:grpSpPr>
        <p:sp>
          <p:nvSpPr>
            <p:cNvPr id="101" name=""/>
            <p:cNvSpPr/>
            <p:nvPr/>
          </p:nvSpPr>
          <p:spPr>
            <a:xfrm>
              <a:off x="495288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436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3" name="" descr=""/>
            <p:cNvPicPr/>
            <p:nvPr/>
          </p:nvPicPr>
          <p:blipFill>
            <a:blip r:embed="rId5"/>
            <a:srcRect l="9899" t="0" r="9899" b="0"/>
            <a:stretch/>
          </p:blipFill>
          <p:spPr>
            <a:xfrm>
              <a:off x="816300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6"/>
            <a:stretch/>
          </p:blipFill>
          <p:spPr>
            <a:xfrm>
              <a:off x="496260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5" name=""/>
          <p:cNvGrpSpPr/>
          <p:nvPr/>
        </p:nvGrpSpPr>
        <p:grpSpPr>
          <a:xfrm>
            <a:off x="76320" y="3570120"/>
            <a:ext cx="4114800" cy="2602080"/>
            <a:chOff x="76320" y="3570120"/>
            <a:chExt cx="4114800" cy="2602080"/>
          </a:xfrm>
        </p:grpSpPr>
        <p:sp>
          <p:nvSpPr>
            <p:cNvPr id="106" name=""/>
            <p:cNvSpPr/>
            <p:nvPr/>
          </p:nvSpPr>
          <p:spPr>
            <a:xfrm>
              <a:off x="76320" y="3570120"/>
              <a:ext cx="4114800" cy="185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t">
              <a:spAutoFit/>
            </a:bodyPr>
            <a:p>
              <a:pPr algn="ctr">
                <a:spcBef>
                  <a:spcPts val="1125"/>
                </a:spcBef>
                <a:spcAft>
                  <a:spcPts val="113"/>
                </a:spcAft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Interview Appoint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5000"/>
                </a:lnSpc>
                <a:spcBef>
                  <a:spcPts val="689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100" spc="-1" strike="noStrike">
                  <a:solidFill>
                    <a:srgbClr val="000000"/>
                  </a:solidFill>
                  <a:latin typeface="Times New Roman"/>
                </a:rPr>
                <a:t>Just a reminder:</a:t>
              </a:r>
              <a:r>
                <a:rPr b="0" i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appreciate you taking time for this important study and look forward to our appointment to complete the interview. A $30 cash payment will be given to you upon completion of the survey! </a:t>
              </a:r>
              <a:br>
                <a:rPr sz="1100"/>
              </a:br>
              <a:r>
                <a:rPr b="0" lang="en-US" sz="1100" spc="-1" strike="noStrike">
                  <a:solidFill>
                    <a:srgbClr val="000000"/>
                  </a:solidFill>
                  <a:latin typeface="Times New Roman"/>
                </a:rPr>
                <a:t>I have you scheduled for the following: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y: 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e: _____________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Time: 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257480"/>
                  <a:tab algn="l" pos="26859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Field Interviewer:  _________________________________________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47800" y="5726160"/>
              <a:ext cx="2514600" cy="2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Institut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Research Triangle Park, NC 27709-2194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08" name="" descr=""/>
            <p:cNvPicPr/>
            <p:nvPr/>
          </p:nvPicPr>
          <p:blipFill>
            <a:blip r:embed="rId7"/>
            <a:srcRect l="9899" t="0" r="9899" b="0"/>
            <a:stretch/>
          </p:blipFill>
          <p:spPr>
            <a:xfrm>
              <a:off x="3286440" y="5440320"/>
              <a:ext cx="89064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9" name="" descr=""/>
            <p:cNvPicPr/>
            <p:nvPr/>
          </p:nvPicPr>
          <p:blipFill>
            <a:blip r:embed="rId8"/>
            <a:stretch/>
          </p:blipFill>
          <p:spPr>
            <a:xfrm>
              <a:off x="86040" y="5410080"/>
              <a:ext cx="636480" cy="685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30T18:56:49Z</dcterms:created>
  <dc:creator>Test</dc:creator>
  <dc:description/>
  <dc:language>en-US</dc:language>
  <cp:lastModifiedBy>NSDUH</cp:lastModifiedBy>
  <dcterms:modified xsi:type="dcterms:W3CDTF">2007-05-22T00:18:57Z</dcterms:modified>
  <cp:revision>8</cp:revision>
  <dc:subject/>
  <dc:title>PowerPoint Presentation</dc:title>
</cp:coreProperties>
</file>